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C13-D467-4898-9DC3-3E57C832BD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328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60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illustrating how maps are use to distribute mat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roduced a new datatype, the distriburted arr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. Duplicates “look and feel” of the Matlab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. Adds capability to automatically parallelize a matri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map is an object that concisely describes how a matrix is partitioned into blocks and how the blocks are assigned to different processo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5C5B-AE42-47A9-880E-AE9B8F0AA9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ility is achieved because the task of writing the application is separated from the task of mapping the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redistributing data in a simple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parallel concurrency and parallel loc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seria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2D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explicitly local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cy and locality calculation for a simple 1D parallel program with re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the presentation is to show the techniques for writing well performing parallel Matlab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matlab code for the four step parallel debugg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ology for debugging parallel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matlab code for timing a parallel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ing speedup for a parallel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and illustration of Amdahl’s La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62AD-94C1-4D88-B44B-0DA3F23ABC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the performance achieved vs the code size for different parallel c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5F68-C046-4ED4-A273-BED751BA3A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API for parallel Matlab program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cal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parallel calculation with replicated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a simple parallel calculation with distributed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pMatlab code for a simple parallel calculation with distributed explicitly local ar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29200" cy="41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0800" y="4343400"/>
            <a:ext cx="5032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notation and corresponding matlab code for different parallel data distrib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33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33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119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17520" y="855720"/>
            <a:ext cx="9755280" cy="14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84400" y="6303960"/>
            <a:ext cx="2153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T Lincoln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76280" y="98280"/>
            <a:ext cx="55872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763120" y="6247800"/>
            <a:ext cx="914400" cy="18252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66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-</a:t>
            </a:r>
            <a:fld id="{759CBDE1-4DC8-4B67-9F0B-B9B63C3E7B32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llel MATLA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-304920" y="6324480"/>
            <a:ext cx="6859800" cy="10656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568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17520" y="730080"/>
            <a:ext cx="9755280" cy="32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400800"/>
            <a:ext cx="66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lide-</a:t>
            </a:r>
            <a:fld id="{F7C2507A-7412-48DC-A9AC-3CE8EDFE9580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llel MATLA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309600" y="6015960"/>
            <a:ext cx="9753480" cy="150840"/>
          </a:xfrm>
          <a:custGeom>
            <a:avLst/>
            <a:gdLst/>
            <a:ahLst/>
            <a:rect l="l" t="t" r="r" b="b"/>
            <a:pathLst>
              <a:path w="6145" h="1">
                <a:moveTo>
                  <a:pt x="0" y="0"/>
                </a:moveTo>
                <a:lnTo>
                  <a:pt x="614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84400" y="6019920"/>
            <a:ext cx="215388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IT Lincoln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6280" y="98280"/>
            <a:ext cx="558720" cy="546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6192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5440" algn="ctr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 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568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 Matlab programm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Distributed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eremy Kepn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Lincoln Laborato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75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work is sponsored by the Department of Defense under Air Force Contract FA8721-05-C-0002.  Opinions, interpretations, conclusions, and recommendations are those of the author and are not necessarily endorsed by the United States Government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290160" y="2057400"/>
            <a:ext cx="84456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s and Distributed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7840" y="977760"/>
            <a:ext cx="879156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cessor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a numerical array is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ignment of blocks of data to processing ele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54200" y="2044800"/>
            <a:ext cx="5802120" cy="459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map = map(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[Np 1]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{},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0:Np-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2920" y="296064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rocessor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70320" y="3733920"/>
            <a:ext cx="4170240" cy="4597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zer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,6,Ama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612200" y="5029200"/>
            <a:ext cx="1371600" cy="914400"/>
            <a:chOff x="7612200" y="5029200"/>
            <a:chExt cx="1371600" cy="914400"/>
          </a:xfrm>
        </p:grpSpPr>
        <p:sp>
          <p:nvSpPr>
            <p:cNvPr id="263" name=""/>
            <p:cNvSpPr/>
            <p:nvPr/>
          </p:nvSpPr>
          <p:spPr>
            <a:xfrm>
              <a:off x="76122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22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122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22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08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08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408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08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94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694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694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694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980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980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980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980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266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266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66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266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55200" y="502920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55200" y="5257800"/>
              <a:ext cx="2286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5200" y="5486400"/>
              <a:ext cx="228600" cy="2286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55200" y="5715000"/>
              <a:ext cx="228600" cy="2286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914400" y="4495680"/>
            <a:ext cx="380880" cy="381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48769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257800"/>
            <a:ext cx="380880" cy="3808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638680"/>
            <a:ext cx="38088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86360" y="29541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st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76520" y="2590920"/>
            <a:ext cx="2133360" cy="4572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095880" y="2514600"/>
            <a:ext cx="76320" cy="457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03400" y="45720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atlab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stru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overloaded to take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n argument, and return a distributed arr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7084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04200" y="29606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}=default=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146480" y="2514600"/>
            <a:ext cx="1187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Ma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0120" y="28195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FT along 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05560" y="2743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rix Multi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73680" y="3327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1003320"/>
            <a:ext cx="1806480" cy="11430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35480" y="1174680"/>
            <a:ext cx="685800" cy="6858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73920" y="1174680"/>
            <a:ext cx="685800" cy="6858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7467480" y="621720"/>
            <a:ext cx="1143000" cy="190512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680" y="1293840"/>
            <a:ext cx="4267080" cy="916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are scalabl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ging the number of processors or distribution does not change th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141960" y="2901960"/>
            <a:ext cx="1187280" cy="1219320"/>
            <a:chOff x="6141960" y="2901960"/>
            <a:chExt cx="1187280" cy="1219320"/>
          </a:xfrm>
        </p:grpSpPr>
        <p:sp>
          <p:nvSpPr>
            <p:cNvPr id="308" name=""/>
            <p:cNvSpPr/>
            <p:nvPr/>
          </p:nvSpPr>
          <p:spPr>
            <a:xfrm>
              <a:off x="6338520" y="3130560"/>
              <a:ext cx="457200" cy="380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8520" y="3511440"/>
              <a:ext cx="457200" cy="381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95720" y="313056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95720" y="3511440"/>
              <a:ext cx="457200" cy="3812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960" y="2901960"/>
              <a:ext cx="1187280" cy="121932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594320" y="2924280"/>
            <a:ext cx="1187280" cy="1229760"/>
            <a:chOff x="4594320" y="2924280"/>
            <a:chExt cx="1187280" cy="1229760"/>
          </a:xfrm>
        </p:grpSpPr>
        <p:sp>
          <p:nvSpPr>
            <p:cNvPr id="314" name=""/>
            <p:cNvSpPr/>
            <p:nvPr/>
          </p:nvSpPr>
          <p:spPr>
            <a:xfrm>
              <a:off x="4792680" y="3163680"/>
              <a:ext cx="457200" cy="3805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92680" y="3544560"/>
              <a:ext cx="457200" cy="38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49880" y="3163680"/>
              <a:ext cx="457200" cy="3805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49880" y="3544560"/>
              <a:ext cx="45720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94320" y="2935080"/>
              <a:ext cx="1187280" cy="121896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94320" y="2924280"/>
              <a:ext cx="1187280" cy="121896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728120" y="3297240"/>
            <a:ext cx="1187280" cy="1219320"/>
            <a:chOff x="7728120" y="3297240"/>
            <a:chExt cx="1187280" cy="1219320"/>
          </a:xfrm>
        </p:grpSpPr>
        <p:grpSp>
          <p:nvGrpSpPr>
            <p:cNvPr id="321" name=""/>
            <p:cNvGrpSpPr/>
            <p:nvPr/>
          </p:nvGrpSpPr>
          <p:grpSpPr>
            <a:xfrm>
              <a:off x="7945200" y="3537000"/>
              <a:ext cx="913680" cy="762120"/>
              <a:chOff x="7945200" y="3537000"/>
              <a:chExt cx="913680" cy="762120"/>
            </a:xfrm>
          </p:grpSpPr>
          <p:sp>
            <p:nvSpPr>
              <p:cNvPr id="322" name=""/>
              <p:cNvSpPr/>
              <p:nvPr/>
            </p:nvSpPr>
            <p:spPr>
              <a:xfrm>
                <a:off x="7945200" y="3537000"/>
                <a:ext cx="228240" cy="7621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73440" y="3537000"/>
                <a:ext cx="228240" cy="762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02040" y="3537000"/>
                <a:ext cx="228240" cy="762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30640" y="3537000"/>
                <a:ext cx="228240" cy="7621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7728120" y="3297240"/>
              <a:ext cx="1187280" cy="121932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52280" y="3186000"/>
            <a:ext cx="4267440" cy="9169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support different algorithms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parallel algorithms have different optimal mapp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5013360"/>
            <a:ext cx="426744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aps allow users to set up pip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code (implicit task parallelis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8387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57531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6675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7581960" y="5067360"/>
            <a:ext cx="914400" cy="838080"/>
          </a:xfrm>
          <a:prstGeom prst="horizontalScroll">
            <a:avLst>
              <a:gd name="adj" fmla="val 12500"/>
            </a:avLst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674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486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82280" y="1206360"/>
            <a:ext cx="199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=rand(M,map&lt;i&gt;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=fft(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09680" y="2286000"/>
            <a:ext cx="346716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1=map([Np 1],{},0:Np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2286000"/>
            <a:ext cx="316260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2=map([1 Np],{},0:Np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167652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7120" y="1676520"/>
            <a:ext cx="53316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35720" y="4186080"/>
            <a:ext cx="204768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0: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79840" y="4186080"/>
            <a:ext cx="273024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[0 2 1 3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762440" y="3621240"/>
            <a:ext cx="5335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96080" y="3511440"/>
            <a:ext cx="442800" cy="67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3120" y="464508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00696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50040" y="599436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72280" y="4645080"/>
            <a:ext cx="1797120" cy="30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([2 2],{},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istribution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istributed arrays can have different ma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ment between arrays with the “=” operator causes data to be redistribu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 library determines all the message to s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-77400" y="24732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-115560" y="2035080"/>
            <a:ext cx="2769840" cy="532440"/>
            <a:chOff x="-115560" y="2035080"/>
            <a:chExt cx="2769840" cy="532440"/>
          </a:xfrm>
        </p:grpSpPr>
        <p:sp>
          <p:nvSpPr>
            <p:cNvPr id="357" name=""/>
            <p:cNvSpPr/>
            <p:nvPr/>
          </p:nvSpPr>
          <p:spPr>
            <a:xfrm>
              <a:off x="-115560" y="2035080"/>
              <a:ext cx="2769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1117800" y="212076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3643200" y="1130400"/>
            <a:ext cx="4600440" cy="1825920"/>
            <a:chOff x="3643200" y="1130400"/>
            <a:chExt cx="4600440" cy="1825920"/>
          </a:xfrm>
        </p:grpSpPr>
        <p:sp>
          <p:nvSpPr>
            <p:cNvPr id="360" name=""/>
            <p:cNvSpPr/>
            <p:nvPr/>
          </p:nvSpPr>
          <p:spPr>
            <a:xfrm>
              <a:off x="3643200" y="1130400"/>
              <a:ext cx="4600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 = map([Np 1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map = map([1 Np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zeros(N,N,Xma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 = zeros(N,N,Yma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3200" y="2557440"/>
              <a:ext cx="24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(:,:) = X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-114120" y="1682640"/>
            <a:ext cx="2770200" cy="532440"/>
            <a:chOff x="-114120" y="1682640"/>
            <a:chExt cx="2770200" cy="532440"/>
          </a:xfrm>
        </p:grpSpPr>
        <p:sp>
          <p:nvSpPr>
            <p:cNvPr id="365" name=""/>
            <p:cNvSpPr/>
            <p:nvPr/>
          </p:nvSpPr>
          <p:spPr>
            <a:xfrm>
              <a:off x="-114120" y="1682640"/>
              <a:ext cx="277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1119240" y="176832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3576600" y="3022560"/>
            <a:ext cx="4622400" cy="1960560"/>
            <a:chOff x="3576600" y="3022560"/>
            <a:chExt cx="4622400" cy="1960560"/>
          </a:xfrm>
        </p:grpSpPr>
        <p:grpSp>
          <p:nvGrpSpPr>
            <p:cNvPr id="368" name=""/>
            <p:cNvGrpSpPr/>
            <p:nvPr/>
          </p:nvGrpSpPr>
          <p:grpSpPr>
            <a:xfrm>
              <a:off x="4194000" y="3316320"/>
              <a:ext cx="1294920" cy="1296360"/>
              <a:chOff x="4194000" y="3316320"/>
              <a:chExt cx="1294920" cy="1296360"/>
            </a:xfrm>
          </p:grpSpPr>
          <p:sp>
            <p:nvSpPr>
              <p:cNvPr id="369" name=""/>
              <p:cNvSpPr/>
              <p:nvPr/>
            </p:nvSpPr>
            <p:spPr>
              <a:xfrm>
                <a:off x="419400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9400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9400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9400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1764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1764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1764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51764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164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4164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4164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4164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165280" y="3316320"/>
                <a:ext cx="3236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5280" y="3640320"/>
                <a:ext cx="323640" cy="3240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65280" y="3964680"/>
                <a:ext cx="32364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65280" y="4288680"/>
                <a:ext cx="323640" cy="3240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3576600" y="3357720"/>
              <a:ext cx="308160" cy="309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76600" y="3666960"/>
              <a:ext cx="308160" cy="308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76600" y="3975120"/>
              <a:ext cx="308160" cy="3078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4282920"/>
              <a:ext cx="308160" cy="309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57880" y="3022560"/>
              <a:ext cx="55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904080" y="3316680"/>
              <a:ext cx="1294920" cy="1296360"/>
              <a:chOff x="6904080" y="3316680"/>
              <a:chExt cx="1294920" cy="1296360"/>
            </a:xfrm>
          </p:grpSpPr>
          <p:sp>
            <p:nvSpPr>
              <p:cNvPr id="391" name=""/>
              <p:cNvSpPr/>
              <p:nvPr/>
            </p:nvSpPr>
            <p:spPr>
              <a:xfrm rot="16200000">
                <a:off x="6903720" y="428904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7227360" y="428904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7551000" y="428904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7875000" y="428904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6200000">
                <a:off x="6903720" y="396504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7227360" y="396504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200000">
                <a:off x="7551000" y="396504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7875000" y="396504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00000">
                <a:off x="6903720" y="364068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200000">
                <a:off x="7227360" y="364068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200000">
                <a:off x="7551000" y="364068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200000">
                <a:off x="7875000" y="364068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200000">
                <a:off x="6903720" y="3316680"/>
                <a:ext cx="324000" cy="3236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200000">
                <a:off x="7227360" y="3316680"/>
                <a:ext cx="324000" cy="323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6200000">
                <a:off x="7551000" y="3316680"/>
                <a:ext cx="324000" cy="3236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00000">
                <a:off x="7875000" y="3316680"/>
                <a:ext cx="324000" cy="323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934320" y="4675320"/>
              <a:ext cx="1234440" cy="307800"/>
              <a:chOff x="6934320" y="4675320"/>
              <a:chExt cx="1234440" cy="307800"/>
            </a:xfrm>
          </p:grpSpPr>
          <p:sp>
            <p:nvSpPr>
              <p:cNvPr id="408" name=""/>
              <p:cNvSpPr/>
              <p:nvPr/>
            </p:nvSpPr>
            <p:spPr>
              <a:xfrm>
                <a:off x="6934320" y="4675320"/>
                <a:ext cx="308520" cy="3078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42840" y="4675320"/>
                <a:ext cx="308520" cy="3078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51360" y="4675320"/>
                <a:ext cx="308880" cy="3078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60240" y="4675320"/>
                <a:ext cx="308520" cy="3078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165800" y="3022560"/>
              <a:ext cx="55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=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3240" y="3772080"/>
              <a:ext cx="1171440" cy="431640"/>
            </a:xfrm>
            <a:prstGeom prst="rightArrow">
              <a:avLst>
                <a:gd name="adj1" fmla="val 50000"/>
                <a:gd name="adj2" fmla="val 6784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6120" y="382572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74800" y="3044880"/>
            <a:ext cx="5896080" cy="961560"/>
            <a:chOff x="874800" y="3044880"/>
            <a:chExt cx="5896080" cy="961560"/>
          </a:xfrm>
        </p:grpSpPr>
        <p:sp>
          <p:nvSpPr>
            <p:cNvPr id="416" name=""/>
            <p:cNvSpPr/>
            <p:nvPr/>
          </p:nvSpPr>
          <p:spPr>
            <a:xfrm>
              <a:off x="874800" y="304488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85280" y="3089520"/>
              <a:ext cx="178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tr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11720" y="307044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4880" y="905040"/>
            <a:ext cx="4584600" cy="21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lel Concurr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operations that can be done in parallel (i.e. no dependen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d wit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80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grees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848040" y="1247760"/>
            <a:ext cx="5168880" cy="1609920"/>
            <a:chOff x="3848040" y="1247760"/>
            <a:chExt cx="5168880" cy="1609920"/>
          </a:xfrm>
        </p:grpSpPr>
        <p:sp>
          <p:nvSpPr>
            <p:cNvPr id="424" name=""/>
            <p:cNvSpPr/>
            <p:nvPr/>
          </p:nvSpPr>
          <p:spPr>
            <a:xfrm rot="5400000">
              <a:off x="6241680" y="-42840"/>
              <a:ext cx="327240" cy="2908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6242400" y="384840"/>
              <a:ext cx="325440" cy="2908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6241680" y="812520"/>
              <a:ext cx="327240" cy="2908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6242400" y="1240560"/>
              <a:ext cx="325440" cy="2908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48040" y="20653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18520" y="2065320"/>
              <a:ext cx="698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0" name=""/>
            <p:cNvCxnSpPr>
              <a:stCxn id="428" idx="0"/>
              <a:endCxn id="424" idx="2"/>
            </p:cNvCxnSpPr>
            <p:nvPr/>
          </p:nvCxnSpPr>
          <p:spPr>
            <a:xfrm flipV="1">
              <a:off x="4546080" y="1409040"/>
              <a:ext cx="404280" cy="67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428" idx="1"/>
              <a:endCxn id="425" idx="2"/>
            </p:cNvCxnSpPr>
            <p:nvPr/>
          </p:nvCxnSpPr>
          <p:spPr>
            <a:xfrm flipV="1">
              <a:off x="4546080" y="1838160"/>
              <a:ext cx="405720" cy="241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428" idx="1"/>
              <a:endCxn id="426" idx="2"/>
            </p:cNvCxnSpPr>
            <p:nvPr/>
          </p:nvCxnSpPr>
          <p:spPr>
            <a:xfrm>
              <a:off x="4546080" y="2079720"/>
              <a:ext cx="404280" cy="186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428" idx="1"/>
              <a:endCxn id="427" idx="2"/>
            </p:cNvCxnSpPr>
            <p:nvPr/>
          </p:nvCxnSpPr>
          <p:spPr>
            <a:xfrm>
              <a:off x="4546080" y="2079360"/>
              <a:ext cx="405720" cy="61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"/>
            <p:cNvCxnSpPr>
              <a:stCxn id="429" idx="0"/>
              <a:endCxn id="424" idx="0"/>
            </p:cNvCxnSpPr>
            <p:nvPr/>
          </p:nvCxnSpPr>
          <p:spPr>
            <a:xfrm flipH="1" flipV="1">
              <a:off x="7857360" y="1409400"/>
              <a:ext cx="461160" cy="642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429" idx="0"/>
              <a:endCxn id="425" idx="0"/>
            </p:cNvCxnSpPr>
            <p:nvPr/>
          </p:nvCxnSpPr>
          <p:spPr>
            <a:xfrm flipH="1" flipV="1">
              <a:off x="7859520" y="1837800"/>
              <a:ext cx="459360" cy="21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426" idx="0"/>
              <a:endCxn id="429" idx="0"/>
            </p:cNvCxnSpPr>
            <p:nvPr/>
          </p:nvCxnSpPr>
          <p:spPr>
            <a:xfrm flipV="1">
              <a:off x="7857720" y="2050560"/>
              <a:ext cx="461160" cy="214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29" idx="0"/>
              <a:endCxn id="427" idx="0"/>
            </p:cNvCxnSpPr>
            <p:nvPr/>
          </p:nvCxnSpPr>
          <p:spPr>
            <a:xfrm flipH="1">
              <a:off x="7859520" y="2051280"/>
              <a:ext cx="45936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8" name=""/>
            <p:cNvCxnSpPr>
              <a:stCxn id="424" idx="2"/>
              <a:endCxn id="424" idx="0"/>
            </p:cNvCxnSpPr>
            <p:nvPr/>
          </p:nvCxnSpPr>
          <p:spPr>
            <a:xfrm>
              <a:off x="4950000" y="1409400"/>
              <a:ext cx="2908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>
              <a:endCxn id="425" idx="0"/>
            </p:cNvCxnSpPr>
            <p:nvPr/>
          </p:nvCxnSpPr>
          <p:spPr>
            <a:xfrm>
              <a:off x="4951080" y="1838160"/>
              <a:ext cx="2909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>
              <a:stCxn id="426" idx="2"/>
              <a:endCxn id="426" idx="0"/>
            </p:cNvCxnSpPr>
            <p:nvPr/>
          </p:nvCxnSpPr>
          <p:spPr>
            <a:xfrm>
              <a:off x="4950000" y="2265120"/>
              <a:ext cx="2908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>
              <a:stCxn id="427" idx="2"/>
              <a:endCxn id="427" idx="0"/>
            </p:cNvCxnSpPr>
            <p:nvPr/>
          </p:nvCxnSpPr>
          <p:spPr>
            <a:xfrm>
              <a:off x="4951080" y="2693880"/>
              <a:ext cx="2909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442" name=""/>
          <p:cNvGrpSpPr/>
          <p:nvPr/>
        </p:nvGrpSpPr>
        <p:grpSpPr>
          <a:xfrm>
            <a:off x="152280" y="3124080"/>
            <a:ext cx="7707240" cy="2095560"/>
            <a:chOff x="152280" y="3124080"/>
            <a:chExt cx="7707240" cy="2095560"/>
          </a:xfrm>
        </p:grpSpPr>
        <p:sp>
          <p:nvSpPr>
            <p:cNvPr id="443" name=""/>
            <p:cNvSpPr/>
            <p:nvPr/>
          </p:nvSpPr>
          <p:spPr>
            <a:xfrm>
              <a:off x="152280" y="3124080"/>
              <a:ext cx="458496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arallel Loc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the data for the operations local to the proc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24"/>
                </a:spcBef>
                <a:buClr>
                  <a:srgbClr val="000000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asured with rati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1840" indent="-341280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utation/Commun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61840" indent="-341280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Work)/(Data Move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400000">
              <a:off x="6241680" y="2090520"/>
              <a:ext cx="326880" cy="2908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400000">
              <a:off x="6242400" y="2518200"/>
              <a:ext cx="325440" cy="2908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400000">
              <a:off x="6241680" y="2946240"/>
              <a:ext cx="326880" cy="2908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400000">
              <a:off x="6242400" y="3373920"/>
              <a:ext cx="325440" cy="2908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359320" y="3625920"/>
              <a:ext cx="2158920" cy="216000"/>
              <a:chOff x="5359320" y="3625920"/>
              <a:chExt cx="2158920" cy="216000"/>
            </a:xfrm>
          </p:grpSpPr>
          <p:sp>
            <p:nvSpPr>
              <p:cNvPr id="449" name=""/>
              <p:cNvSpPr/>
              <p:nvPr/>
            </p:nvSpPr>
            <p:spPr>
              <a:xfrm>
                <a:off x="535932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607860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752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7518240" y="36259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359320" y="4084560"/>
              <a:ext cx="2158920" cy="216000"/>
              <a:chOff x="5359320" y="4084560"/>
              <a:chExt cx="2158920" cy="216000"/>
            </a:xfrm>
          </p:grpSpPr>
          <p:sp>
            <p:nvSpPr>
              <p:cNvPr id="454" name=""/>
              <p:cNvSpPr/>
              <p:nvPr/>
            </p:nvSpPr>
            <p:spPr>
              <a:xfrm>
                <a:off x="535932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07860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9752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7518240" y="4084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59320" y="4492440"/>
              <a:ext cx="2158920" cy="216000"/>
              <a:chOff x="5359320" y="4492440"/>
              <a:chExt cx="2158920" cy="216000"/>
            </a:xfrm>
          </p:grpSpPr>
          <p:sp>
            <p:nvSpPr>
              <p:cNvPr id="459" name=""/>
              <p:cNvSpPr/>
              <p:nvPr/>
            </p:nvSpPr>
            <p:spPr>
              <a:xfrm>
                <a:off x="5359320" y="44928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078600" y="44924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97520" y="44928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518240" y="449244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>
            <a:off x="9178920" y="30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5175360"/>
            <a:ext cx="7772400" cy="113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is ubiquitous; “easy” to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 is harder to find, but is the key to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tributed arrays derive concurrency from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max degrees of parallelism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 =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Moved: depends upon m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5424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706920" y="1730520"/>
            <a:ext cx="3838320" cy="3045600"/>
            <a:chOff x="3706920" y="1730520"/>
            <a:chExt cx="3838320" cy="3045600"/>
          </a:xfrm>
        </p:grpSpPr>
        <p:sp>
          <p:nvSpPr>
            <p:cNvPr id="472" name=""/>
            <p:cNvSpPr/>
            <p:nvPr/>
          </p:nvSpPr>
          <p:spPr>
            <a:xfrm>
              <a:off x="3706920" y="3157560"/>
              <a:ext cx="38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i=1: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j=1: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(i,j) = X(i,j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06920" y="1730520"/>
              <a:ext cx="246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 = zeros(N,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 = zeros(N,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47240" y="2386080"/>
            <a:ext cx="1711080" cy="477720"/>
            <a:chOff x="147240" y="2386080"/>
            <a:chExt cx="1711080" cy="477720"/>
          </a:xfrm>
        </p:grpSpPr>
        <p:sp>
          <p:nvSpPr>
            <p:cNvPr id="475" name=""/>
            <p:cNvSpPr/>
            <p:nvPr/>
          </p:nvSpPr>
          <p:spPr>
            <a:xfrm>
              <a:off x="147240" y="2386080"/>
              <a:ext cx="1711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09440" y="2386080"/>
            <a:ext cx="2081520" cy="477720"/>
            <a:chOff x="109440" y="2386080"/>
            <a:chExt cx="2081520" cy="477720"/>
          </a:xfrm>
        </p:grpSpPr>
        <p:sp>
          <p:nvSpPr>
            <p:cNvPr id="484" name=""/>
            <p:cNvSpPr/>
            <p:nvPr/>
          </p:nvSpPr>
          <p:spPr>
            <a:xfrm>
              <a:off x="109440" y="2386080"/>
              <a:ext cx="208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06920" y="173052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Y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</a:t>
            </a:r>
            <a:r>
              <a:rPr b="1" lang="en-US" sz="2000" spc="-1" strike="noStrike">
                <a:solidFill>
                  <a:srgbClr val="3d65fc"/>
                </a:solidFill>
                <a:latin typeface="Arial"/>
              </a:rPr>
              <a:t>N</a:t>
            </a:r>
            <a:r>
              <a:rPr b="1" lang="en-US" sz="2000" spc="-1" strike="noStrike" baseline="30000">
                <a:solidFill>
                  <a:srgbClr val="3d65f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07640" y="1730520"/>
            <a:ext cx="50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Ymap = map([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Np/2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X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280" y="2386080"/>
            <a:ext cx="2451960" cy="477720"/>
            <a:chOff x="71280" y="2386080"/>
            <a:chExt cx="2451960" cy="477720"/>
          </a:xfrm>
        </p:grpSpPr>
        <p:sp>
          <p:nvSpPr>
            <p:cNvPr id="497" name=""/>
            <p:cNvSpPr/>
            <p:nvPr/>
          </p:nvSpPr>
          <p:spPr>
            <a:xfrm>
              <a:off x="71280" y="2386080"/>
              <a:ext cx="245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8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Explicitly Lo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-601200" y="3030480"/>
            <a:ext cx="43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size(X.loc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size(X.loc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loc(i,j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loc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706920" y="1730520"/>
            <a:ext cx="5058000" cy="3045600"/>
            <a:chOff x="3706920" y="1730520"/>
            <a:chExt cx="5058000" cy="3045600"/>
          </a:xfrm>
        </p:grpSpPr>
        <p:sp>
          <p:nvSpPr>
            <p:cNvPr id="506" name=""/>
            <p:cNvSpPr/>
            <p:nvPr/>
          </p:nvSpPr>
          <p:spPr>
            <a:xfrm>
              <a:off x="3706920" y="3157560"/>
              <a:ext cx="4752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i=1:size(Xloc,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for j=1:size(Xloc,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(i,j) = Xloc(i,j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7640" y="1730520"/>
              <a:ext cx="5057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Ymap = map([Np/2 2],{},0:Np-1)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280" y="2386080"/>
            <a:ext cx="2451960" cy="477720"/>
            <a:chOff x="71280" y="2386080"/>
            <a:chExt cx="2451960" cy="477720"/>
          </a:xfrm>
        </p:grpSpPr>
        <p:sp>
          <p:nvSpPr>
            <p:cNvPr id="509" name=""/>
            <p:cNvSpPr/>
            <p:nvPr/>
          </p:nvSpPr>
          <p:spPr>
            <a:xfrm>
              <a:off x="71280" y="2386080"/>
              <a:ext cx="245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1041480" y="2454120"/>
              <a:ext cx="21276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D with Re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: degrees of parallelism = min(N,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ty: Work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ata Moved =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/Communication = Work/(Data Moved) = </a:t>
            </a:r>
            <a:r>
              <a:rPr b="1" lang="en-US" sz="2000" spc="-1" strike="noStrike">
                <a:solidFill>
                  <a:srgbClr val="3d65f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722520" y="303048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=1: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06560" y="1430280"/>
            <a:ext cx="460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map = map([1 Np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X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Ym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06920" y="3157560"/>
            <a:ext cx="38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j=1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i,j) = X(i,j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-69480" y="2033640"/>
            <a:ext cx="2448720" cy="830160"/>
            <a:chOff x="-69480" y="2033640"/>
            <a:chExt cx="2448720" cy="830160"/>
          </a:xfrm>
        </p:grpSpPr>
        <p:grpSp>
          <p:nvGrpSpPr>
            <p:cNvPr id="520" name=""/>
            <p:cNvGrpSpPr/>
            <p:nvPr/>
          </p:nvGrpSpPr>
          <p:grpSpPr>
            <a:xfrm>
              <a:off x="-69480" y="2386080"/>
              <a:ext cx="2447280" cy="477720"/>
              <a:chOff x="-69480" y="2386080"/>
              <a:chExt cx="2447280" cy="477720"/>
            </a:xfrm>
          </p:grpSpPr>
          <p:sp>
            <p:nvSpPr>
              <p:cNvPr id="521" name=""/>
              <p:cNvSpPr/>
              <p:nvPr/>
            </p:nvSpPr>
            <p:spPr>
              <a:xfrm>
                <a:off x="-69480" y="2386080"/>
                <a:ext cx="24472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    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1480" y="2454120"/>
                <a:ext cx="21276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3" name=""/>
            <p:cNvGrpSpPr/>
            <p:nvPr/>
          </p:nvGrpSpPr>
          <p:grpSpPr>
            <a:xfrm>
              <a:off x="-68040" y="2033640"/>
              <a:ext cx="2447280" cy="477720"/>
              <a:chOff x="-68040" y="2033640"/>
              <a:chExt cx="24472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-68040" y="2033640"/>
                <a:ext cx="244728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:    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2101680"/>
                <a:ext cx="212760" cy="21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Think Matrices no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782800"/>
            <a:ext cx="5754240" cy="3541680"/>
            <a:chOff x="1447920" y="2782800"/>
            <a:chExt cx="5754240" cy="3541680"/>
          </a:xfrm>
        </p:grpSpPr>
        <p:sp>
          <p:nvSpPr>
            <p:cNvPr id="99" name=""/>
            <p:cNvSpPr/>
            <p:nvPr/>
          </p:nvSpPr>
          <p:spPr>
            <a:xfrm>
              <a:off x="3251160" y="6048360"/>
              <a:ext cx="2398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grammer Eff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343440" y="4243680"/>
              <a:ext cx="2411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formance Speed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8640" y="2782800"/>
              <a:ext cx="579600" cy="328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440" y="2782800"/>
              <a:ext cx="57924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155680" y="2976120"/>
              <a:ext cx="0" cy="27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55680" y="5745240"/>
              <a:ext cx="457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55680" y="477828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16600" y="5767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u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4240" y="5767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7040" y="5767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e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79800" y="5767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680" y="374796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920" y="37576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55680" y="3233880"/>
              <a:ext cx="444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1200" y="298440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ardware li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1480" y="3255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a56ff"/>
                  </a:solidFill>
                  <a:latin typeface="Times New Roman"/>
                </a:rPr>
                <a:t>Exp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55680" y="3298680"/>
              <a:ext cx="3930840" cy="2178360"/>
            </a:xfrm>
            <a:custGeom>
              <a:avLst/>
              <a:gdLst/>
              <a:ahLst/>
              <a:rect l="l" t="t" r="r" b="b"/>
              <a:pathLst>
                <a:path w="2928" h="1624">
                  <a:moveTo>
                    <a:pt x="0" y="1104"/>
                  </a:moveTo>
                  <a:cubicBezTo>
                    <a:pt x="164" y="1364"/>
                    <a:pt x="328" y="1624"/>
                    <a:pt x="816" y="1440"/>
                  </a:cubicBezTo>
                  <a:cubicBezTo>
                    <a:pt x="1304" y="1256"/>
                    <a:pt x="2116" y="628"/>
                    <a:pt x="292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55680" y="3233880"/>
              <a:ext cx="2190960" cy="1544400"/>
            </a:xfrm>
            <a:custGeom>
              <a:avLst/>
              <a:gdLst/>
              <a:ahLst/>
              <a:rect l="l" t="t" r="r" b="b"/>
              <a:pathLst>
                <a:path w="1632" h="1152">
                  <a:moveTo>
                    <a:pt x="0" y="1152"/>
                  </a:moveTo>
                  <a:cubicBezTo>
                    <a:pt x="89" y="997"/>
                    <a:pt x="264" y="416"/>
                    <a:pt x="536" y="224"/>
                  </a:cubicBezTo>
                  <a:cubicBezTo>
                    <a:pt x="808" y="32"/>
                    <a:pt x="1404" y="47"/>
                    <a:pt x="1632" y="0"/>
                  </a:cubicBezTo>
                </a:path>
              </a:pathLst>
            </a:custGeom>
            <a:noFill/>
            <a:ln w="28440">
              <a:solidFill>
                <a:srgbClr val="3a5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8960" y="44146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, writing well performing parallel programs has required a lot of code and a lot of expert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atlab distributed arrays eliminates the coding bu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making programs run fast still requires expert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alk illustrates the key math concepts experts use to make parallel programs perform we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874800" y="3699000"/>
            <a:ext cx="7423920" cy="1509840"/>
            <a:chOff x="874800" y="3699000"/>
            <a:chExt cx="7423920" cy="1509840"/>
          </a:xfrm>
        </p:grpSpPr>
        <p:sp>
          <p:nvSpPr>
            <p:cNvPr id="527" name=""/>
            <p:cNvSpPr/>
            <p:nvPr/>
          </p:nvSpPr>
          <p:spPr>
            <a:xfrm>
              <a:off x="874800" y="3699000"/>
              <a:ext cx="3525840" cy="6314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67200" y="3743280"/>
              <a:ext cx="3431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ur Step 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mdahl’s 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erforfmance vs 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ort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1720" y="3724200"/>
              <a:ext cx="744840" cy="58212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120"/>
                <a:gd name="textAreaBottom" fmla="*/ 44964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7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examples/Add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pAdd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ddOne.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se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ALLEL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UN(’pAddOne’,1,{})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LLEL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}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’cluster’})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5423040"/>
            <a:ext cx="7772400" cy="78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steps to taking a serial Matlab program and making it a parallel Matla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ebugging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four step process for debugging a paralle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129528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22860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8080" y="426708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52578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8080" y="327672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5400000">
            <a:off x="1009080" y="188568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009080" y="287640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1009440" y="3867120"/>
            <a:ext cx="571320" cy="304920"/>
          </a:xfrm>
          <a:prstGeom prst="rightArrow">
            <a:avLst>
              <a:gd name="adj1" fmla="val 50000"/>
              <a:gd name="adj2" fmla="val 468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2286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3276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atlab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2480" y="4267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lle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5334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560" y="1752480"/>
            <a:ext cx="75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DM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2560" y="2819520"/>
            <a:ext cx="71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560" y="4800600"/>
            <a:ext cx="71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P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1480" y="3809880"/>
            <a:ext cx="787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tlab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1009080" y="4857480"/>
            <a:ext cx="571680" cy="304920"/>
          </a:xfrm>
          <a:prstGeom prst="rightArrow">
            <a:avLst>
              <a:gd name="adj1" fmla="val 50000"/>
              <a:gd name="adj2" fmla="val 468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160020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distributed matrices without maps, verify functional correct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0;   pRUN(’pAddOne’,1,{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2666880"/>
            <a:ext cx="6629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maps, run on 1 processor, verify parallel correctness, compare performance with 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  pRUN(’pAddOne’,1,{}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3733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with more processes, verify parallel correct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1;   pRUN(’pAddOne’,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{}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7242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with more processors, compare performance with 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ALLEL=1;   pRUN(’pAddOne’,2,</a:t>
            </a:r>
            <a:r>
              <a:rPr b="1" lang="en-US" sz="1600" spc="-1" strike="noStrike">
                <a:solidFill>
                  <a:srgbClr val="3d65fc"/>
                </a:solidFill>
                <a:latin typeface="Courier New"/>
              </a:rPr>
              <a:t>{‘cluster’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5880240"/>
            <a:ext cx="77724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debug at earliest step possible (takes less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952200"/>
            <a:ext cx="8089920" cy="45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dAddOn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1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2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4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8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 with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UN(’pAddone’,16,{’cluster’}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0000" indent="-32076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ing_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5499000"/>
            <a:ext cx="7772400" cy="787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program while doubling number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execu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ing Spee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749600" y="782640"/>
          <a:ext cx="518760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782640"/>
                    <a:ext cx="51876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3011040" y="4761000"/>
            <a:ext cx="323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1410480" y="2406600"/>
            <a:ext cx="125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519444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up Formula:      Speedup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 Time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)/Time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is sublinear 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rograms saturate at some value of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262160" y="747720"/>
            <a:ext cx="6629400" cy="4595760"/>
            <a:chOff x="1262160" y="747720"/>
            <a:chExt cx="6629400" cy="4595760"/>
          </a:xfrm>
        </p:grpSpPr>
        <p:graphicFrame>
          <p:nvGraphicFramePr>
            <p:cNvPr id="570" name=""/>
            <p:cNvGraphicFramePr/>
            <p:nvPr/>
          </p:nvGraphicFramePr>
          <p:xfrm>
            <a:off x="1262160" y="747720"/>
            <a:ext cx="5991120" cy="459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2160" y="747720"/>
                      <a:ext cx="5991120" cy="459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2" name=""/>
            <p:cNvSpPr/>
            <p:nvPr/>
          </p:nvSpPr>
          <p:spPr>
            <a:xfrm>
              <a:off x="3251160" y="4967280"/>
              <a:ext cx="283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000">
              <a:off x="27720" y="2693160"/>
              <a:ext cx="2854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eed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40360" y="27907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54400" y="2444760"/>
              <a:ext cx="28371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87760" y="3281400"/>
              <a:ext cx="0" cy="1449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6200000">
              <a:off x="3852720" y="3839760"/>
              <a:ext cx="15145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05400" y="3295800"/>
              <a:ext cx="291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86360" y="3276720"/>
              <a:ext cx="2836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9179000">
              <a:off x="3436560" y="2180880"/>
              <a:ext cx="2854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47200">
              <a:off x="3523680" y="2882520"/>
              <a:ext cx="2854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Times New Roman"/>
                </a:rPr>
                <a:t>|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= 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85800" y="527040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work into parallel (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serial (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ial fraction sets maximum speedup: 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wise:      Speedup(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=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C Challenge Speedup vs Eff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7520" y="977760"/>
            <a:ext cx="4960800" cy="3954240"/>
            <a:chOff x="1757520" y="977760"/>
            <a:chExt cx="4960800" cy="3954240"/>
          </a:xfrm>
        </p:grpSpPr>
        <p:sp>
          <p:nvSpPr>
            <p:cNvPr id="585" name=""/>
            <p:cNvSpPr/>
            <p:nvPr/>
          </p:nvSpPr>
          <p:spPr>
            <a:xfrm>
              <a:off x="2457720" y="1078200"/>
              <a:ext cx="4142520" cy="3232080"/>
            </a:xfrm>
            <a:prstGeom prst="rect">
              <a:avLst/>
            </a:prstGeom>
            <a:noFill/>
            <a:ln w="11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08760" y="431568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8760" y="385560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8760" y="339192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08760" y="293184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08760" y="246960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08760" y="200952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08760" y="1545840"/>
              <a:ext cx="56880" cy="180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8760" y="1085760"/>
              <a:ext cx="56880" cy="144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465640" y="4315680"/>
              <a:ext cx="144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0172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538160" y="4315680"/>
              <a:ext cx="144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57028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606360" y="4315680"/>
              <a:ext cx="1800" cy="56880"/>
            </a:xfrm>
            <a:prstGeom prst="line">
              <a:avLst/>
            </a:prstGeom>
            <a:ln w="32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26720" y="1901520"/>
              <a:ext cx="136440" cy="136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42320" y="1641240"/>
              <a:ext cx="136800" cy="136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06560" y="3458160"/>
              <a:ext cx="136800" cy="1368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00080" y="1412640"/>
              <a:ext cx="136440" cy="1368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97800" y="2517480"/>
              <a:ext cx="125280" cy="1270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93840" y="2515320"/>
              <a:ext cx="13320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12440" y="2407320"/>
              <a:ext cx="127440" cy="1270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08480" y="2403360"/>
              <a:ext cx="13320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63120" y="3608640"/>
              <a:ext cx="127440" cy="12528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9880" y="3604680"/>
              <a:ext cx="134640" cy="13320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1160" y="2441160"/>
              <a:ext cx="127080" cy="127440"/>
            </a:xfrm>
            <a:prstGeom prst="ellipse">
              <a:avLst/>
            </a:prstGeom>
            <a:solidFill>
              <a:srgbClr val="1fb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9360" y="2439360"/>
              <a:ext cx="133200" cy="13248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15120" y="1920600"/>
              <a:ext cx="1270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11160" y="1916640"/>
              <a:ext cx="134640" cy="13464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81720" y="2235960"/>
              <a:ext cx="127440" cy="1252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7760" y="2232000"/>
              <a:ext cx="13464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25360" y="3888000"/>
              <a:ext cx="1252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21400" y="3884040"/>
              <a:ext cx="13320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40000" y="1460520"/>
              <a:ext cx="127080" cy="127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36040" y="1456560"/>
              <a:ext cx="133200" cy="13320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57520" y="420768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8320" y="37476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62000" y="32835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66760" y="28231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19760" y="2361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17880" y="1901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13120" y="14374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10520" y="9777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35600" y="4475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21360" y="44755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08920" y="4475520"/>
              <a:ext cx="26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0240" y="4475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04120" y="44755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8480" y="4688280"/>
              <a:ext cx="180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tive Code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6200000">
              <a:off x="1469160" y="25588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eed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80240" y="1570320"/>
              <a:ext cx="1000080" cy="55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76640" y="1568520"/>
              <a:ext cx="1007280" cy="564480"/>
            </a:xfrm>
            <a:prstGeom prst="rect">
              <a:avLst/>
            </a:prstGeom>
            <a:noFill/>
            <a:ln w="11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22360" y="1616040"/>
              <a:ext cx="96840" cy="99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18400" y="1612080"/>
              <a:ext cx="104760" cy="10476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52680" y="1593360"/>
              <a:ext cx="45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+ MP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27760" y="1806120"/>
              <a:ext cx="89640" cy="89640"/>
            </a:xfrm>
            <a:prstGeom prst="ellipse">
              <a:avLst/>
            </a:prstGeom>
            <a:solidFill>
              <a:srgbClr val="1fb714"/>
            </a:solidFill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24520" y="1802160"/>
              <a:ext cx="94680" cy="95040"/>
            </a:xfrm>
            <a:prstGeom prst="ellipse">
              <a:avLst/>
            </a:prstGeom>
            <a:noFill/>
            <a:ln w="1260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320" y="177768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7760" y="1990800"/>
              <a:ext cx="89640" cy="889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24520" y="1986840"/>
              <a:ext cx="94680" cy="95040"/>
            </a:xfrm>
            <a:prstGeom prst="ellipse">
              <a:avLst/>
            </a:prstGeom>
            <a:noFill/>
            <a:ln w="6480">
              <a:solidFill>
                <a:srgbClr val="1fb7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3040" y="1962360"/>
              <a:ext cx="44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Matla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73200" y="2465640"/>
              <a:ext cx="4106520" cy="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75680" y="1103040"/>
              <a:ext cx="0" cy="3193560"/>
            </a:xfrm>
            <a:prstGeom prst="line">
              <a:avLst/>
            </a:prstGeom>
            <a:ln w="648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1040" y="1425960"/>
              <a:ext cx="412524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88160" y="1169280"/>
              <a:ext cx="156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al speedup = 1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5592600" y="18446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11800" y="1581120"/>
            <a:ext cx="55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48320" y="1353960"/>
            <a:ext cx="75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88280" y="3327480"/>
            <a:ext cx="7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6400" y="3462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83320" y="375120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86360" y="1450800"/>
            <a:ext cx="7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64080" y="18572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35360" y="2182680"/>
            <a:ext cx="65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(3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68760" y="2374920"/>
            <a:ext cx="75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40280" y="2457360"/>
            <a:ext cx="45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65360" y="2346480"/>
            <a:ext cx="55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70400"/>
            <a:ext cx="7772400" cy="1092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 Goal is speedup with minimum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C Challenge benchmark data shows that pMatlab can deliver high performance with a low cod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00800" y="2390760"/>
            <a:ext cx="156960" cy="157320"/>
          </a:xfrm>
          <a:prstGeom prst="rect">
            <a:avLst/>
          </a:prstGeom>
          <a:solidFill>
            <a:srgbClr val="3a56ff"/>
          </a:solidFill>
          <a:ln w="12600">
            <a:solidFill>
              <a:srgbClr val="392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20680" y="23652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ial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able Parallel Program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013560" y="3230640"/>
            <a:ext cx="2131560" cy="1481040"/>
            <a:chOff x="3013560" y="3230640"/>
            <a:chExt cx="2131560" cy="1481040"/>
          </a:xfrm>
        </p:grpSpPr>
        <p:grpSp>
          <p:nvGrpSpPr>
            <p:cNvPr id="666" name=""/>
            <p:cNvGrpSpPr/>
            <p:nvPr/>
          </p:nvGrpSpPr>
          <p:grpSpPr>
            <a:xfrm>
              <a:off x="3926160" y="3230640"/>
              <a:ext cx="1218960" cy="838080"/>
              <a:chOff x="3926160" y="3230640"/>
              <a:chExt cx="1218960" cy="838080"/>
            </a:xfrm>
          </p:grpSpPr>
          <p:sp>
            <p:nvSpPr>
              <p:cNvPr id="667" name=""/>
              <p:cNvSpPr/>
              <p:nvPr/>
            </p:nvSpPr>
            <p:spPr>
              <a:xfrm flipH="1">
                <a:off x="4840560" y="3230640"/>
                <a:ext cx="3045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4535280" y="3230640"/>
                <a:ext cx="3049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4230360" y="3230640"/>
                <a:ext cx="3049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926160" y="3230640"/>
                <a:ext cx="3045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623040" y="3454560"/>
              <a:ext cx="1218960" cy="838080"/>
              <a:chOff x="3623040" y="3454560"/>
              <a:chExt cx="1218960" cy="83808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4765680" y="3454560"/>
                <a:ext cx="759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68972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61340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537080" y="3454560"/>
                <a:ext cx="759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4461120" y="3454560"/>
                <a:ext cx="7632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438480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4308480" y="3454560"/>
                <a:ext cx="7596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4232520" y="345456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156200" y="3454560"/>
                <a:ext cx="7632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079880" y="3454560"/>
                <a:ext cx="7596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400392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927600" y="345456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851280" y="3454560"/>
                <a:ext cx="7596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775320" y="3454560"/>
                <a:ext cx="7632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99000" y="3454560"/>
                <a:ext cx="7632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3622680" y="3454560"/>
                <a:ext cx="7596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358080" y="3703680"/>
              <a:ext cx="1218960" cy="838080"/>
              <a:chOff x="3358080" y="3703680"/>
              <a:chExt cx="1218960" cy="83808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4424400" y="3703680"/>
                <a:ext cx="1522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4272120" y="3703680"/>
                <a:ext cx="15228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119840" y="3703680"/>
                <a:ext cx="15264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67200" y="3703680"/>
                <a:ext cx="15228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814920" y="3703680"/>
                <a:ext cx="1522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3662640" y="3703680"/>
                <a:ext cx="152640" cy="838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3510000" y="3703680"/>
                <a:ext cx="152280" cy="8380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357720" y="3703680"/>
                <a:ext cx="152280" cy="8380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013560" y="3873600"/>
              <a:ext cx="1218960" cy="838080"/>
              <a:chOff x="3013560" y="3873600"/>
              <a:chExt cx="1218960" cy="83808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3851640" y="3873600"/>
                <a:ext cx="380880" cy="8380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3547080" y="3873600"/>
                <a:ext cx="380880" cy="838080"/>
                <a:chOff x="3547080" y="3873600"/>
                <a:chExt cx="380880" cy="838080"/>
              </a:xfrm>
            </p:grpSpPr>
            <p:sp>
              <p:nvSpPr>
                <p:cNvPr id="700" name=""/>
                <p:cNvSpPr/>
                <p:nvPr/>
              </p:nvSpPr>
              <p:spPr>
                <a:xfrm flipH="1">
                  <a:off x="3547080" y="3873600"/>
                  <a:ext cx="380880" cy="83808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3851640" y="3873600"/>
                  <a:ext cx="76320" cy="838080"/>
                </a:xfrm>
                <a:prstGeom prst="rect">
                  <a:avLst/>
                </a:prstGeom>
                <a:solidFill>
                  <a:srgbClr val="618ffd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242160" y="3873600"/>
                <a:ext cx="380880" cy="838080"/>
                <a:chOff x="3242160" y="3873600"/>
                <a:chExt cx="380880" cy="838080"/>
              </a:xfrm>
            </p:grpSpPr>
            <p:sp>
              <p:nvSpPr>
                <p:cNvPr id="703" name=""/>
                <p:cNvSpPr/>
                <p:nvPr/>
              </p:nvSpPr>
              <p:spPr>
                <a:xfrm flipH="1">
                  <a:off x="3242160" y="3873600"/>
                  <a:ext cx="380880" cy="83808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3546720" y="3873600"/>
                  <a:ext cx="75960" cy="838080"/>
                </a:xfrm>
                <a:prstGeom prst="rect">
                  <a:avLst/>
                </a:prstGeom>
                <a:solidFill>
                  <a:srgbClr val="ffff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3013560" y="3873600"/>
                <a:ext cx="304560" cy="838080"/>
                <a:chOff x="3013560" y="3873600"/>
                <a:chExt cx="304560" cy="838080"/>
              </a:xfrm>
            </p:grpSpPr>
            <p:sp>
              <p:nvSpPr>
                <p:cNvPr id="706" name=""/>
                <p:cNvSpPr/>
                <p:nvPr/>
              </p:nvSpPr>
              <p:spPr>
                <a:xfrm flipH="1">
                  <a:off x="3013560" y="3873600"/>
                  <a:ext cx="304560" cy="838080"/>
                </a:xfrm>
                <a:prstGeom prst="rect">
                  <a:avLst/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>
                  <a:off x="3241800" y="3873600"/>
                  <a:ext cx="75960" cy="838080"/>
                </a:xfrm>
                <a:prstGeom prst="rect">
                  <a:avLst/>
                </a:prstGeom>
                <a:solidFill>
                  <a:srgbClr val="fc0128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8" name=""/>
          <p:cNvSpPr/>
          <p:nvPr/>
        </p:nvSpPr>
        <p:spPr>
          <a:xfrm>
            <a:off x="644400" y="1149480"/>
            <a:ext cx="3780000" cy="131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map = map([Np 1],{},0:Np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map = map([1 Np],{},0:Np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 = rand(M,N,A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 = zeros(M,N,B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(:,:) = ff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640" y="8380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Parallel Matlab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160" y="2546280"/>
            <a:ext cx="37256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 runs in all parallel Matlab environm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a few functions are need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t_lo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_ind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g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066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dMsg/RecvMs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757840" y="888840"/>
            <a:ext cx="3340080" cy="481824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6127920" y="888840"/>
            <a:ext cx="2927160" cy="384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eremy Kep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allel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Multicore and Multinod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46920" y="1676520"/>
            <a:ext cx="12826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0320" y="5046840"/>
            <a:ext cx="7683480" cy="115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 small number of distributed array functions are necessary to write nearly all paralle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ng programs to a small set of functions allows parallel programs to run efficiently on the widest range of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92960" y="2446200"/>
            <a:ext cx="2039760" cy="2372040"/>
            <a:chOff x="6492960" y="2446200"/>
            <a:chExt cx="2039760" cy="2372040"/>
          </a:xfrm>
        </p:grpSpPr>
        <p:sp>
          <p:nvSpPr>
            <p:cNvPr id="716" name=""/>
            <p:cNvSpPr/>
            <p:nvPr/>
          </p:nvSpPr>
          <p:spPr>
            <a:xfrm flipV="1">
              <a:off x="6683400" y="3338280"/>
              <a:ext cx="282600" cy="5634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75480" y="4716360"/>
              <a:ext cx="1565280" cy="1018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78720" y="4157640"/>
              <a:ext cx="276120" cy="557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8242200" y="4253040"/>
              <a:ext cx="281160" cy="5652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53400" y="4156200"/>
              <a:ext cx="1571400" cy="98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07400" y="2760840"/>
              <a:ext cx="0" cy="1684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97640" y="2778120"/>
              <a:ext cx="0" cy="1684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86800" y="2795760"/>
              <a:ext cx="0" cy="168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77400" y="2813040"/>
              <a:ext cx="0" cy="168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2"/>
            <a:stretch/>
          </p:blipFill>
          <p:spPr>
            <a:xfrm>
              <a:off x="6683400" y="3338640"/>
              <a:ext cx="179388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683400" y="3900600"/>
              <a:ext cx="1565280" cy="1015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686640" y="3341520"/>
              <a:ext cx="276120" cy="5569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250120" y="3436920"/>
              <a:ext cx="281160" cy="5652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1320" y="3340080"/>
              <a:ext cx="1571400" cy="9864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072200" y="3362400"/>
              <a:ext cx="27792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7464600" y="3387600"/>
              <a:ext cx="276120" cy="55584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7856640" y="3411360"/>
              <a:ext cx="276120" cy="5554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07400" y="2759040"/>
              <a:ext cx="0" cy="86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97640" y="2781360"/>
              <a:ext cx="0" cy="869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778880" y="2790720"/>
              <a:ext cx="7920" cy="88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77400" y="2816280"/>
              <a:ext cx="4680" cy="895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68080" y="43228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66600" y="4341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55400" y="4361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42760" y="43815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12080" y="3240000"/>
              <a:ext cx="390600" cy="2700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12080" y="3186000"/>
              <a:ext cx="774720" cy="5256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20000" y="3140280"/>
              <a:ext cx="1154160" cy="75960"/>
            </a:xfrm>
            <a:prstGeom prst="line">
              <a:avLst/>
            </a:prstGeom>
            <a:ln w="19080">
              <a:solidFill>
                <a:srgbClr val="ffffff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492960" y="2765160"/>
              <a:ext cx="0" cy="1685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066080" y="4181400"/>
              <a:ext cx="27612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456680" y="4205160"/>
              <a:ext cx="277560" cy="5572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48720" y="4230360"/>
              <a:ext cx="276120" cy="555480"/>
            </a:xfrm>
            <a:prstGeom prst="line">
              <a:avLst/>
            </a:prstGeom>
            <a:ln cap="rnd" w="38160">
              <a:solidFill>
                <a:srgbClr val="91919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3"/>
            <a:stretch/>
          </p:blipFill>
          <p:spPr>
            <a:xfrm>
              <a:off x="6670800" y="2446200"/>
              <a:ext cx="179208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6670800" y="3008520"/>
              <a:ext cx="1565280" cy="997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672240" y="2449440"/>
              <a:ext cx="276120" cy="55584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8236080" y="2544480"/>
              <a:ext cx="282600" cy="5634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46920" y="2448000"/>
              <a:ext cx="1573200" cy="9828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359240" y="1015920"/>
            <a:ext cx="1203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6668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3868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4900680"/>
            <a:ext cx="91440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8108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DM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2920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Matlab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53080" y="5052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d CP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5570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14800" y="55864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Matlab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38680" y="55864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allel correct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62920" y="5616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2168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4556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6980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85760" y="47181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3320" y="570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et It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8360" y="578484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ke It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4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arrays eliminate most parallel coding bu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well performing programs requires expert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ts rely on several key conce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cy vs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Speed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step process for developing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s debugging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e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838080" y="1600200"/>
            <a:ext cx="6914520" cy="1235880"/>
            <a:chOff x="838080" y="1600200"/>
            <a:chExt cx="6914520" cy="1235880"/>
          </a:xfrm>
        </p:grpSpPr>
        <p:sp>
          <p:nvSpPr>
            <p:cNvPr id="120" name=""/>
            <p:cNvSpPr/>
            <p:nvPr/>
          </p:nvSpPr>
          <p:spPr>
            <a:xfrm>
              <a:off x="838080" y="160020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9720" y="1644840"/>
              <a:ext cx="288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erial Pro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arallel Exec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stributed Arr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xplicitly 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5000" y="162576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al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 is a high level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mathematical expressions to be written concis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dimensional array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0040" y="3130560"/>
            <a:ext cx="1922400" cy="532440"/>
            <a:chOff x="140040" y="3130560"/>
            <a:chExt cx="1922400" cy="532440"/>
          </a:xfrm>
        </p:grpSpPr>
        <p:sp>
          <p:nvSpPr>
            <p:cNvPr id="130" name=""/>
            <p:cNvSpPr/>
            <p:nvPr/>
          </p:nvSpPr>
          <p:spPr>
            <a:xfrm>
              <a:off x="140040" y="3130560"/>
              <a:ext cx="1922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3200" y="2530440"/>
            <a:ext cx="24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424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794040" y="1249200"/>
            <a:ext cx="5232600" cy="2857680"/>
            <a:chOff x="3794040" y="1249200"/>
            <a:chExt cx="5232600" cy="2857680"/>
          </a:xfrm>
        </p:grpSpPr>
        <p:grpSp>
          <p:nvGrpSpPr>
            <p:cNvPr id="137" name=""/>
            <p:cNvGrpSpPr/>
            <p:nvPr/>
          </p:nvGrpSpPr>
          <p:grpSpPr>
            <a:xfrm>
              <a:off x="4022640" y="1249200"/>
              <a:ext cx="4995720" cy="2367000"/>
              <a:chOff x="4022640" y="1249200"/>
              <a:chExt cx="4995720" cy="2367000"/>
            </a:xfrm>
          </p:grpSpPr>
          <p:sp>
            <p:nvSpPr>
              <p:cNvPr id="138" name=""/>
              <p:cNvSpPr/>
              <p:nvPr/>
            </p:nvSpPr>
            <p:spPr>
              <a:xfrm>
                <a:off x="4022640" y="1292400"/>
                <a:ext cx="4940280" cy="232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40360" y="1249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Pid=Np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794040" y="1739880"/>
              <a:ext cx="5005440" cy="2367000"/>
              <a:chOff x="3794040" y="1739880"/>
              <a:chExt cx="5005440" cy="2367000"/>
            </a:xfrm>
          </p:grpSpPr>
          <p:sp>
            <p:nvSpPr>
              <p:cNvPr id="141" name=""/>
              <p:cNvSpPr/>
              <p:nvPr/>
            </p:nvSpPr>
            <p:spPr>
              <a:xfrm>
                <a:off x="3794040" y="1783080"/>
                <a:ext cx="4940280" cy="232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932960" y="173988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</a:rPr>
                  <a:t>Pid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8788320" y="3568680"/>
              <a:ext cx="238320" cy="4413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9600" y="1677960"/>
            <a:ext cx="2607480" cy="2435400"/>
            <a:chOff x="309600" y="1677960"/>
            <a:chExt cx="2607480" cy="2435400"/>
          </a:xfrm>
        </p:grpSpPr>
        <p:grpSp>
          <p:nvGrpSpPr>
            <p:cNvPr id="145" name=""/>
            <p:cNvGrpSpPr/>
            <p:nvPr/>
          </p:nvGrpSpPr>
          <p:grpSpPr>
            <a:xfrm>
              <a:off x="590400" y="1677960"/>
              <a:ext cx="2326680" cy="1941480"/>
              <a:chOff x="590400" y="1677960"/>
              <a:chExt cx="2326680" cy="1941480"/>
            </a:xfrm>
          </p:grpSpPr>
          <p:sp>
            <p:nvSpPr>
              <p:cNvPr id="146" name=""/>
              <p:cNvSpPr/>
              <p:nvPr/>
            </p:nvSpPr>
            <p:spPr>
              <a:xfrm>
                <a:off x="590400" y="1717560"/>
                <a:ext cx="2214360" cy="190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12960" y="1677960"/>
                <a:ext cx="1104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=N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09600" y="2171880"/>
              <a:ext cx="2274840" cy="1941480"/>
              <a:chOff x="309600" y="2171880"/>
              <a:chExt cx="2274840" cy="1941480"/>
            </a:xfrm>
          </p:grpSpPr>
          <p:sp>
            <p:nvSpPr>
              <p:cNvPr id="149" name=""/>
              <p:cNvSpPr/>
              <p:nvPr/>
            </p:nvSpPr>
            <p:spPr>
              <a:xfrm>
                <a:off x="309600" y="2211480"/>
                <a:ext cx="2214360" cy="190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33840" y="2171880"/>
                <a:ext cx="75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ID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2592360" y="3594240"/>
              <a:ext cx="238320" cy="44136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641760" y="2044800"/>
            <a:ext cx="4940280" cy="232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80320" y="2001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d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320" y="2505240"/>
            <a:ext cx="2214360" cy="19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19360" y="24652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pies of sam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5920" indent="-330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rogram Multiple Data (SPM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py has a uniq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rray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lic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each copy of the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0040" y="3130560"/>
            <a:ext cx="1922400" cy="532440"/>
            <a:chOff x="140040" y="3130560"/>
            <a:chExt cx="1922400" cy="532440"/>
          </a:xfrm>
        </p:grpSpPr>
        <p:sp>
          <p:nvSpPr>
            <p:cNvPr id="161" name=""/>
            <p:cNvSpPr/>
            <p:nvPr/>
          </p:nvSpPr>
          <p:spPr>
            <a:xfrm>
              <a:off x="140040" y="3130560"/>
              <a:ext cx="1922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3200" y="2530440"/>
            <a:ext cx="24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022640" y="1292400"/>
            <a:ext cx="4940280" cy="23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42160" y="1249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d=Np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94040" y="1739880"/>
            <a:ext cx="5005440" cy="2367000"/>
            <a:chOff x="3794040" y="1739880"/>
            <a:chExt cx="5005440" cy="2367000"/>
          </a:xfrm>
        </p:grpSpPr>
        <p:sp>
          <p:nvSpPr>
            <p:cNvPr id="170" name=""/>
            <p:cNvSpPr/>
            <p:nvPr/>
          </p:nvSpPr>
          <p:spPr>
            <a:xfrm>
              <a:off x="3794040" y="1783080"/>
              <a:ext cx="4940280" cy="232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32960" y="17398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id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41760" y="2001960"/>
            <a:ext cx="5004720" cy="2367000"/>
            <a:chOff x="3641760" y="2001960"/>
            <a:chExt cx="5004720" cy="2367000"/>
          </a:xfrm>
        </p:grpSpPr>
        <p:sp>
          <p:nvSpPr>
            <p:cNvPr id="173" name=""/>
            <p:cNvSpPr/>
            <p:nvPr/>
          </p:nvSpPr>
          <p:spPr>
            <a:xfrm>
              <a:off x="3641760" y="2045160"/>
              <a:ext cx="4939920" cy="232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9960" y="2001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id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0400" y="1677960"/>
            <a:ext cx="2314080" cy="1941480"/>
            <a:chOff x="590400" y="1677960"/>
            <a:chExt cx="2314080" cy="1941480"/>
          </a:xfrm>
        </p:grpSpPr>
        <p:sp>
          <p:nvSpPr>
            <p:cNvPr id="176" name=""/>
            <p:cNvSpPr/>
            <p:nvPr/>
          </p:nvSpPr>
          <p:spPr>
            <a:xfrm>
              <a:off x="590400" y="1717560"/>
              <a:ext cx="2214360" cy="19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00360" y="1677960"/>
              <a:ext cx="110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09600" y="2211480"/>
            <a:ext cx="2214360" cy="19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49680" y="21718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7320" y="2505240"/>
            <a:ext cx="2214360" cy="19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5200" y="2465280"/>
            <a:ext cx="75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Array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make a distributed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ls program which dimension to distribut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rogram implicitly operates on only its own data (owner computes ru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77400" y="3873600"/>
            <a:ext cx="21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3240" y="3130560"/>
            <a:ext cx="2342880" cy="532440"/>
            <a:chOff x="93240" y="3130560"/>
            <a:chExt cx="2342880" cy="532440"/>
          </a:xfrm>
        </p:grpSpPr>
        <p:sp>
          <p:nvSpPr>
            <p:cNvPr id="187" name=""/>
            <p:cNvSpPr/>
            <p:nvPr/>
          </p:nvSpPr>
          <p:spPr>
            <a:xfrm>
              <a:off x="93240" y="3130560"/>
              <a:ext cx="2342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3d65fc"/>
                  </a:solidFill>
                  <a:latin typeface="Times New Roman"/>
                </a:rPr>
                <a:t>P(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30000">
                  <a:solidFill>
                    <a:srgbClr val="3d65fc"/>
                  </a:solidFill>
                  <a:latin typeface="Times New Roman"/>
                </a:rPr>
                <a:t>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643200" y="39574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(:,:) = X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43200" y="253044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 = map([Np 1],{},0:Np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zeros(N,N,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zeros(N,N,</a:t>
            </a:r>
            <a:r>
              <a:rPr b="0" lang="en-US" sz="2000" spc="-1" strike="noStrike">
                <a:solidFill>
                  <a:srgbClr val="3d65fc"/>
                </a:solidFill>
                <a:latin typeface="Courier New"/>
              </a:rPr>
              <a:t>XYm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92360" y="3594240"/>
            <a:ext cx="238320" cy="441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788320" y="3568680"/>
            <a:ext cx="238320" cy="441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3782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ly Local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lo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) to explicitly retrieve local part of a distributed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 is the same as serial program, but with different data on each processor (recommended approac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406800" y="387360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loc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loc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2880" y="3130560"/>
            <a:ext cx="2343240" cy="532440"/>
            <a:chOff x="92880" y="3130560"/>
            <a:chExt cx="2343240" cy="532440"/>
          </a:xfrm>
        </p:grpSpPr>
        <p:sp>
          <p:nvSpPr>
            <p:cNvPr id="200" name=""/>
            <p:cNvSpPr/>
            <p:nvPr/>
          </p:nvSpPr>
          <p:spPr>
            <a:xfrm>
              <a:off x="92880" y="3130560"/>
              <a:ext cx="234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    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1117800" y="3216240"/>
              <a:ext cx="25056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3643200" y="2530440"/>
            <a:ext cx="4905360" cy="1825920"/>
            <a:chOff x="3643200" y="2530440"/>
            <a:chExt cx="4905360" cy="1825920"/>
          </a:xfrm>
        </p:grpSpPr>
        <p:sp>
          <p:nvSpPr>
            <p:cNvPr id="203" name=""/>
            <p:cNvSpPr/>
            <p:nvPr/>
          </p:nvSpPr>
          <p:spPr>
            <a:xfrm>
              <a:off x="3643200" y="3957480"/>
              <a:ext cx="33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(:,:) = Xloc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43560" y="2530440"/>
              <a:ext cx="4905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Ymap = map([Np 1],{},0:Np-1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loc = local(zeros(N,N,XYmap)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13076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53520" y="822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838080" y="2295360"/>
            <a:ext cx="6418080" cy="687240"/>
            <a:chOff x="838080" y="2295360"/>
            <a:chExt cx="6418080" cy="687240"/>
          </a:xfrm>
        </p:grpSpPr>
        <p:sp>
          <p:nvSpPr>
            <p:cNvPr id="208" name=""/>
            <p:cNvSpPr/>
            <p:nvPr/>
          </p:nvSpPr>
          <p:spPr>
            <a:xfrm>
              <a:off x="838080" y="2295360"/>
              <a:ext cx="3525840" cy="6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21920" y="2340000"/>
              <a:ext cx="233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dis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75000" y="2320920"/>
              <a:ext cx="744840" cy="582480"/>
            </a:xfrm>
            <a:custGeom>
              <a:avLst/>
              <a:gdLst>
                <a:gd name="textAreaLeft" fmla="*/ 116280 w 744840"/>
                <a:gd name="textAreaRight" fmla="*/ 544680 w 744840"/>
                <a:gd name="textAreaTop" fmla="*/ 132480 h 582480"/>
                <a:gd name="textAreaBottom" fmla="*/ 45000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923"/>
                  </a:moveTo>
                  <a:lnTo>
                    <a:pt x="10932" y="4923"/>
                  </a:lnTo>
                  <a:lnTo>
                    <a:pt x="10932" y="0"/>
                  </a:lnTo>
                  <a:lnTo>
                    <a:pt x="21600" y="10800"/>
                  </a:lnTo>
                  <a:lnTo>
                    <a:pt x="10932" y="21600"/>
                  </a:lnTo>
                  <a:lnTo>
                    <a:pt x="10932" y="16677"/>
                  </a:lnTo>
                  <a:lnTo>
                    <a:pt x="3375" y="16677"/>
                  </a:lnTo>
                  <a:close/>
                </a:path>
                <a:path w="21600" h="21600">
                  <a:moveTo>
                    <a:pt x="0" y="4923"/>
                  </a:moveTo>
                  <a:lnTo>
                    <a:pt x="675" y="4923"/>
                  </a:lnTo>
                  <a:lnTo>
                    <a:pt x="675" y="16677"/>
                  </a:lnTo>
                  <a:lnTo>
                    <a:pt x="0" y="16677"/>
                  </a:lnTo>
                  <a:close/>
                </a:path>
                <a:path w="21600" h="21600">
                  <a:moveTo>
                    <a:pt x="1350" y="4923"/>
                  </a:moveTo>
                  <a:lnTo>
                    <a:pt x="2700" y="4923"/>
                  </a:lnTo>
                  <a:lnTo>
                    <a:pt x="2700" y="16677"/>
                  </a:lnTo>
                  <a:lnTo>
                    <a:pt x="1350" y="16677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4800" y="1769760"/>
            <a:ext cx="5526000" cy="39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arallel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Concurrency vs Loc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umma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4016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91440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Ma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309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p is a mapping of array indices to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block, cyclic, block-cyclic, or block w/over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tation (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set which dimension to split among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960640" y="1515960"/>
            <a:ext cx="1234800" cy="532440"/>
            <a:chOff x="2960640" y="1515960"/>
            <a:chExt cx="1234800" cy="532440"/>
          </a:xfrm>
        </p:grpSpPr>
        <p:sp>
          <p:nvSpPr>
            <p:cNvPr id="218" name=""/>
            <p:cNvSpPr/>
            <p:nvPr/>
          </p:nvSpPr>
          <p:spPr>
            <a:xfrm>
              <a:off x="3126240" y="1515960"/>
              <a:ext cx="1069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P(N)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960640" y="1539720"/>
              <a:ext cx="250920" cy="2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4811760" y="148752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map=map([Np 1],{},0:Np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7000" y="82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080" y="8222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9800" y="4175280"/>
            <a:ext cx="2589120" cy="78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7920" y="4513320"/>
            <a:ext cx="380880" cy="380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8800" y="45133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49680" y="4511520"/>
            <a:ext cx="381240" cy="3812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30920" y="4511520"/>
            <a:ext cx="38088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45520" y="4175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4480" y="4508640"/>
            <a:ext cx="50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9920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0240" y="8222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27120" y="2235240"/>
            <a:ext cx="8327880" cy="651600"/>
            <a:chOff x="627120" y="2235240"/>
            <a:chExt cx="8327880" cy="651600"/>
          </a:xfrm>
        </p:grpSpPr>
        <p:grpSp>
          <p:nvGrpSpPr>
            <p:cNvPr id="233" name=""/>
            <p:cNvGrpSpPr/>
            <p:nvPr/>
          </p:nvGrpSpPr>
          <p:grpSpPr>
            <a:xfrm>
              <a:off x="2960640" y="2354400"/>
              <a:ext cx="1234800" cy="532440"/>
              <a:chOff x="2960640" y="2354400"/>
              <a:chExt cx="1234800" cy="532440"/>
            </a:xfrm>
          </p:grpSpPr>
          <p:sp>
            <p:nvSpPr>
              <p:cNvPr id="234" name=""/>
              <p:cNvSpPr/>
              <p:nvPr/>
            </p:nvSpPr>
            <p:spPr>
              <a:xfrm>
                <a:off x="3126240" y="2354400"/>
                <a:ext cx="106920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60640" y="2378160"/>
                <a:ext cx="25092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" name=""/>
            <p:cNvSpPr/>
            <p:nvPr/>
          </p:nvSpPr>
          <p:spPr>
            <a:xfrm>
              <a:off x="4811760" y="2325600"/>
              <a:ext cx="41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=map([1 Np],{},0:Np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7120" y="2235240"/>
              <a:ext cx="1218960" cy="584280"/>
              <a:chOff x="627120" y="2235240"/>
              <a:chExt cx="1218960" cy="5842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120" y="2235240"/>
                <a:ext cx="304560" cy="5842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31680" y="2235240"/>
                <a:ext cx="304920" cy="584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36600" y="2235240"/>
                <a:ext cx="304920" cy="58428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41520" y="2235240"/>
                <a:ext cx="304560" cy="5842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627120" y="1333440"/>
            <a:ext cx="1218960" cy="583920"/>
            <a:chOff x="627120" y="1333440"/>
            <a:chExt cx="1218960" cy="583920"/>
          </a:xfrm>
        </p:grpSpPr>
        <p:sp>
          <p:nvSpPr>
            <p:cNvPr id="243" name=""/>
            <p:cNvSpPr/>
            <p:nvPr/>
          </p:nvSpPr>
          <p:spPr>
            <a:xfrm rot="5400000">
              <a:off x="1163520" y="796680"/>
              <a:ext cx="145800" cy="1218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1163520" y="942480"/>
              <a:ext cx="146160" cy="1218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1163520" y="1088640"/>
              <a:ext cx="146160" cy="1218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163520" y="1234800"/>
              <a:ext cx="145800" cy="1218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3880" y="3174840"/>
            <a:ext cx="8632800" cy="651600"/>
            <a:chOff x="623880" y="3174840"/>
            <a:chExt cx="8632800" cy="651600"/>
          </a:xfrm>
        </p:grpSpPr>
        <p:grpSp>
          <p:nvGrpSpPr>
            <p:cNvPr id="248" name=""/>
            <p:cNvGrpSpPr/>
            <p:nvPr/>
          </p:nvGrpSpPr>
          <p:grpSpPr>
            <a:xfrm>
              <a:off x="623880" y="3174840"/>
              <a:ext cx="1216800" cy="584280"/>
              <a:chOff x="623880" y="3174840"/>
              <a:chExt cx="1216800" cy="584280"/>
            </a:xfrm>
          </p:grpSpPr>
          <p:sp>
            <p:nvSpPr>
              <p:cNvPr id="249" name=""/>
              <p:cNvSpPr/>
              <p:nvPr/>
            </p:nvSpPr>
            <p:spPr>
              <a:xfrm>
                <a:off x="623880" y="3174840"/>
                <a:ext cx="608400" cy="2919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23880" y="3466800"/>
                <a:ext cx="608400" cy="2923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32280" y="3174840"/>
                <a:ext cx="608400" cy="2919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32280" y="3466800"/>
                <a:ext cx="608400" cy="2923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957400" y="3294000"/>
              <a:ext cx="1608840" cy="532440"/>
              <a:chOff x="2957400" y="3294000"/>
              <a:chExt cx="1608840" cy="532440"/>
            </a:xfrm>
          </p:grpSpPr>
          <p:sp>
            <p:nvSpPr>
              <p:cNvPr id="254" name=""/>
              <p:cNvSpPr/>
              <p:nvPr/>
            </p:nvSpPr>
            <p:spPr>
              <a:xfrm>
                <a:off x="3076200" y="3294000"/>
                <a:ext cx="14900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P(N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57400" y="3317760"/>
                <a:ext cx="25092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6" name=""/>
            <p:cNvSpPr/>
            <p:nvPr/>
          </p:nvSpPr>
          <p:spPr>
            <a:xfrm>
              <a:off x="4808880" y="3265560"/>
              <a:ext cx="444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Xmap=map([Np/2 2],{},0:Np-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51Z</dcterms:created>
  <dc:creator>Jeremy Kepner</dc:creator>
  <dc:description/>
  <cp:keywords/>
  <dc:language>en-US</dc:language>
  <cp:lastModifiedBy>Kepner</cp:lastModifiedBy>
  <cp:lastPrinted>2003-07-31T20:56:01Z</cp:lastPrinted>
  <dcterms:modified xsi:type="dcterms:W3CDTF">2009-07-10T22:38:53Z</dcterms:modified>
  <cp:revision>367</cp:revision>
  <dc:subject/>
  <dc:title>300x Matlab</dc:title>
</cp:coreProperties>
</file>